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D50-F30E-4504-9D98-2C23380F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F37-2AB3-4B83-AC8B-153861D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EE6-D1CC-456C-8245-4D7F13AF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706-975E-4614-A00F-B2019CD1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32E-6D7C-4437-B35C-EFF5D400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7DC-F668-4E5E-BF6A-638D3609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2A7-B211-449D-B00A-356DEBB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12F-6BFD-4302-935F-004F176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9A8-100B-45E6-9FAF-5BA98BF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0EE-B805-4B58-8571-9AB7FF4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A8B-AB46-496D-9AC6-C60CA59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7F4-148B-4699-8ACE-62BE07B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AE1BE-83CF-4E14-9B83-8263F67A77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0600"/>
            <a:ext cx="907092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ffffff"/>
                </a:solidFill>
                <a:latin typeface="Tempus Sans ITC"/>
              </a:rPr>
              <a:t>LA PLACA BAS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000" y="3239640"/>
            <a:ext cx="9070920" cy="40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24000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717120"/>
            <a:ext cx="907092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Qué e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3510000"/>
            <a:ext cx="882036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lvl="1" marL="431640" indent="-215640"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Placa de plástico con un circuito grabado en          su superficie                 circuito imp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0360" y="414036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360360"/>
            <a:ext cx="9070920" cy="63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07964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croproce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51280" y="942840"/>
            <a:ext cx="2627280" cy="19368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0" name=""/>
          <p:cNvSpPr/>
          <p:nvPr/>
        </p:nvSpPr>
        <p:spPr>
          <a:xfrm>
            <a:off x="900000" y="306072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morias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00720" y="2519280"/>
            <a:ext cx="3419280" cy="249732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  <p:sp>
        <p:nvSpPr>
          <p:cNvPr id="52" name=""/>
          <p:cNvSpPr/>
          <p:nvPr/>
        </p:nvSpPr>
        <p:spPr>
          <a:xfrm>
            <a:off x="900000" y="4859280"/>
            <a:ext cx="2160720" cy="539640"/>
          </a:xfrm>
          <a:prstGeom prst="rightArrow">
            <a:avLst>
              <a:gd name="adj1" fmla="val 50000"/>
              <a:gd name="adj2" fmla="val 10010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c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71800" y="3378240"/>
            <a:ext cx="4408560" cy="3281400"/>
          </a:xfrm>
          <a:prstGeom prst="rect">
            <a:avLst/>
          </a:prstGeom>
          <a:ln w="57240">
            <a:solidFill>
              <a:srgbClr val="000000"/>
            </a:solidFill>
            <a:round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717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Dónde está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25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Se encuentra en la base del orden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3780000"/>
            <a:ext cx="4859280" cy="362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9280" y="6300720"/>
            <a:ext cx="3060720" cy="720720"/>
          </a:xfrm>
          <a:prstGeom prst="rightArrow">
            <a:avLst>
              <a:gd name="adj1" fmla="val 50000"/>
              <a:gd name="adj2" fmla="val 106169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596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empus Sans ITC"/>
              </a:rPr>
              <a:t>¿Para qué sirve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000" y="2290680"/>
            <a:ext cx="907092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Servir de soporte (memorias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                   RAM, microprocesador...)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Permitir la comunicación entre  los       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diferentes    componentes 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empus Sans ITC"/>
              </a:rPr>
              <a:t>del orden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519280"/>
            <a:ext cx="1979640" cy="540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4716360"/>
            <a:ext cx="1979640" cy="540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00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907092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empus Sans ITC"/>
              </a:rPr>
              <a:t>Component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1040" y="2340000"/>
            <a:ext cx="6529320" cy="470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21280" y="214164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02360" y="5381640"/>
            <a:ext cx="273672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2000" y="6642000"/>
            <a:ext cx="30956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742000" y="6642000"/>
            <a:ext cx="255600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1782720" y="6642000"/>
            <a:ext cx="7556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00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9280" y="107964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Creado p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Rosa Elena Castro Bon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4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IES Los Naranj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38:32Z</dcterms:created>
  <dc:creator/>
  <dc:description/>
  <dc:language>en-US</dc:language>
  <cp:lastModifiedBy>Usuario</cp:lastModifiedBy>
  <dcterms:modified xsi:type="dcterms:W3CDTF">2010-02-02T12:06:34Z</dcterms:modified>
  <cp:revision>7</cp:revision>
  <dc:subject/>
  <dc:title>LA PLACA BASE</dc:title>
</cp:coreProperties>
</file>